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33D6-7A4E-462C-A38D-88376DEF4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1152.nicerweb.com/Locked/media/ch45/endocrin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yoclinic.com/health/medical/IM006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ualberta.ca/~somji/pituitary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reabsorption of water in distal convoluted tu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ed by alcohol &amp; caffe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tocin: childbirth, milk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hyroiduk.org.uk/tuk/about_the_thyroid/thyroid_overview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eavingbio.net/endocrine%20system/endocrine%20syste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ayoclinic.com/health/medical/IM034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ichd.nih.gov/health/topics/adrenal_gland_disorders.c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inghaven.typepad.com/photos/fillmores_12_power/pineal-drawin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choolworkhelper.net/2010/07/the-endocrine-system-function-and-structur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nekaeportfolio.blogspot.com/2011/02/identifying-classes-of-hormone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DCA-31F4-4B64-8D18-6FA57F14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2F9-2C7C-4E2F-B338-8597798C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1010-A2F6-4D93-9591-95D426BD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825-D158-4804-B864-7300725A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FD6F-E7C0-4668-BD2F-A6ED0580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7B9-1FCD-4CBF-B414-3A05CCD0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D4C-2601-4A34-BC73-1B3AF41B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627F-509F-40B8-A3EF-013796B6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1E8-F08F-4D8F-806B-8631548A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D49-8350-4538-8BD3-0CF5947A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780C-321D-4893-AA25-C27C3F4C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775-1A7A-4A62-A6B3-1702B375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3088-99E8-46FA-AF46-B41924592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943696/student_view0/chapter10/animation__second_messenger__camp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olcweb/cgi/pluginpop.cgi?it=swf::535::535::/sites/dl/free/0072437316/120109/bio46.swf::Mechanism%20of%20Steroid%20Hormone%20Action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mones &amp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ocrine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1 &amp; 1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31840" y="609480"/>
            <a:ext cx="6878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82760" y="609480"/>
            <a:ext cx="6378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the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diffuse into the blood and travel to the pituitary 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gla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es hormones that control other endocrine 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nervous control of the hypothala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30400" y="1981080"/>
            <a:ext cx="508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rior Pitui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hormones from the hypothalamus stimulate or inhibit release of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, stores &amp; rele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actin (P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horm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pic hormones (TSH, ACTH, FSH, L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anocyte-stimulating hormone M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mediate Lob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very developed in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s endorphins, “natural painkill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phins function in the nervous system in pathways that control p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erior Pitui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s and releases hormones produced by the hypothalam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-diuretic hormone (AD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to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2960" y="609480"/>
            <a:ext cx="7316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yroid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ted by TSH secrete thyroxin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arget cell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nverted to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riiodothyronine, which enters nucleus and combines with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growth, development, metabolism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81120" y="609480"/>
            <a:ext cx="4181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yroid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has specialized cells that secrete calcitonin (protein horm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s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s in blood by stimulating deposition in bones, and reducing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ptake by kidn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alamus release T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H causes the anterior pituitary to release T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H causes the thyroid to release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hibits secretion of TSH by the anterior pitu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82760" y="609480"/>
            <a:ext cx="6378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thyroid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athyroid hormone (PT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s are too low, PTH is relea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es bones to release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es kidneys to activate vitamin D, which acts on cells in intestines to increase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09600" y="609480"/>
            <a:ext cx="672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al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renal medulla secretes epinephrine &amp; norepineph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ht or flight”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renal cortex secretes hormones such as aldosterone (osmoregulation), cortisol (blood glucose regu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66840" y="609480"/>
            <a:ext cx="661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eal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 biological rhythms due to secretion of melato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(detected by the eye) inhibits melatonin 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s produced by cells in one part of the body that regulate processes in another part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nds secrete hormones directly into the blood (exocrine glands into du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e vs. Nerv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ystems integrate and control organs and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ous system helps body to adju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c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 system maintains control ov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nger periods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mino acid chains and are water-soluble; diffuse well through blood and fl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r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derived from cholesterol and are soluble in blood when combined with hydrophilic carrier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-Soluble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35160" y="1981080"/>
            <a:ext cx="487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water-soluble (protein) hormones. Specific example of using cAMP to activate proteins in the target c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943696/student_view0/chapter10/animation__second_messenger__camp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-Soluble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84360" y="1981080"/>
            <a:ext cx="417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steroid hormone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olcweb/cgi/pluginpop.cgi?it=swf::535::535::/sites/dl/free/0072437316/120109/bio46.swf::Mechanism%20of%20Steroid%20Hormone%20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0:21:50Z</dcterms:created>
  <dc:creator>rubina khan</dc:creator>
  <dc:description/>
  <dc:language>en-US</dc:language>
  <cp:lastModifiedBy>rubina khan</cp:lastModifiedBy>
  <dcterms:modified xsi:type="dcterms:W3CDTF">2012-12-20T11:34:10Z</dcterms:modified>
  <cp:revision>90</cp:revision>
  <dc:subject/>
  <dc:title>Importance of the Endocrine System</dc:title>
</cp:coreProperties>
</file>